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215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21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21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5141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5141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21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21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21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89AD-2221-430A-B37D-A8BDF774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514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1DB2-FE90-4C15-963E-458E7E33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DC90-637B-41EE-A1CD-274A1541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5141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573A-099D-4B6A-AA4E-BAD2B4F5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4675-4143-43EE-8639-F1ED2FD5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7A16-8CA1-4FF1-9D9F-F6E3A035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141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21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0F3E-A939-4182-AF34-CCEED6FB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14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21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EF61-62B7-4DC1-8BDA-3214DC9E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215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A792-EEC4-4B88-9E59-B9DC5D33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215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BAF7-53BC-442B-BF7C-3B29C782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21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21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B528-C238-4D65-89C8-4697CA5B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5141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5141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21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21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21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0BF5-176B-4B6F-B090-68813E3A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5141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141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21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21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1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14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215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14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514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381A-97FB-48D7-A1FA-A6942B2535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arthobservations.org/documents/committees/uic/201003_14thUIC/11_Energy%20COP.pdf" TargetMode="External"/><Relationship Id="rId2" Type="http://schemas.openxmlformats.org/officeDocument/2006/relationships/hyperlink" Target="http://www.earthobservations.org/documents/committees/uic/201003_14thUIC/12_agriculture_cop.pdf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faa"/>
                </a:solidFill>
                <a:latin typeface="Arial"/>
              </a:rPr>
              <a:t>ROLE OF THE GEO AQ COMMUNITY OF PRACTICE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J. Foley, PhD, US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Chair, GEO User Interface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Chair, US-Canada Int’l AQ Advisory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16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304812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faa"/>
                </a:solidFill>
                <a:latin typeface="Arial"/>
              </a:rPr>
              <a:t>GEO 2010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5faa"/>
                </a:solidFill>
                <a:latin typeface="Arial"/>
              </a:rPr>
              <a:t>Communities of Practice:</a:t>
            </a:r>
            <a:br>
              <a:rPr sz="4000"/>
            </a:br>
            <a:r>
              <a:rPr b="1" lang="en-US" sz="4000" spc="-1" strike="noStrike">
                <a:solidFill>
                  <a:srgbClr val="005faa"/>
                </a:solidFill>
                <a:latin typeface="Arial"/>
              </a:rPr>
              <a:t>The Status</a:t>
            </a:r>
            <a:endParaRPr b="1" lang="en-US" sz="40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cc3300"/>
                </a:solidFill>
                <a:latin typeface="Arial"/>
              </a:rPr>
              <a:t>Current GEO Communities of Practic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514160"/>
            <a:ext cx="3814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stal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y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2920" y="1514160"/>
            <a:ext cx="3814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Agricultural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&amp;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Water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cc3300"/>
                </a:solidFill>
                <a:latin typeface="Arial"/>
              </a:rPr>
              <a:t>Recent Presentations to the UIC</a:t>
            </a:r>
            <a:br>
              <a:rPr sz="2800"/>
            </a:br>
            <a:r>
              <a:rPr b="0" lang="en" sz="2800" spc="-1" strike="noStrike">
                <a:solidFill>
                  <a:srgbClr val="cc3300"/>
                </a:solidFill>
                <a:latin typeface="Arial"/>
              </a:rPr>
              <a:t>14</a:t>
            </a:r>
            <a:r>
              <a:rPr b="0" lang="en" sz="28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" sz="2800" spc="-1" strike="noStrike">
                <a:solidFill>
                  <a:srgbClr val="cc3300"/>
                </a:solidFill>
                <a:latin typeface="Arial"/>
              </a:rPr>
              <a:t> Meeting, February 2010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Community of Practice (R. Dargavil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ergy Community of Pract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. LeDrew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griculture Community of Pract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J. S. Pariha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stal Zone Community of Practice (H. P. Pla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Community of Practice (R. Lawf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y forward for the Cryosphere Theme (J. Ke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Quality Community of Practice (R. Husa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st Community of Practice (M. Brad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Hazards Community of Practice (S. Mars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What have we learned in GEO about global and local AQ so far?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ocal AQ and health, it is 60 % community and 40 % technology to produce su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ublic wants environmental information, but depends upon the community to interpre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munity provides the context that lies between the data and the public, e.g. AIRNow Shanghai pi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ransport, a good accomplishment is the linkage of WMO’s Sand &amp; Dust Storm Warning System and MERIT’s Meningitis Decision Support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304812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5faa"/>
                </a:solidFill>
                <a:latin typeface="Arial"/>
              </a:rPr>
              <a:t>Extra Slides</a:t>
            </a:r>
            <a:endParaRPr b="1" lang="en-US" sz="40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ublic officials, Advocacy Groups and the Public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391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they care 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environmental issues personally and/or professionally interest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ecisions do they regularly make and how do they get their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they assess the value if they could make better decis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542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ublic Officials – What Benefits Might Interest Them?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202716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air is cleaner and safer to br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ate and encourage early adopters of new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spread voluntary measures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the Country’s competitiveness (electricity and energ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ublic is well-informed with real-time information, uses it &amp; sees th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542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he Public – What Benefits Might Interest Them?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air is cleaner and safer to br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protect myself and my family when air pollution alerts occ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voluntary measures can I t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my lifestyle &amp; activities lead me and my family to greater involuntary ris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my lifestyle &amp; activities lead to greater pollution episodes and risk to my commun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keep well-informed with real-time information and how should I us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304812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faa"/>
                </a:solidFill>
                <a:latin typeface="Arial"/>
              </a:rPr>
              <a:t>GEO 2005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5faa"/>
                </a:solidFill>
                <a:latin typeface="Arial"/>
              </a:rPr>
              <a:t>Communities of Practice:</a:t>
            </a:r>
            <a:br>
              <a:rPr sz="4000"/>
            </a:br>
            <a:r>
              <a:rPr b="1" lang="en-US" sz="4000" spc="-1" strike="noStrike">
                <a:solidFill>
                  <a:srgbClr val="005faa"/>
                </a:solidFill>
                <a:latin typeface="Arial"/>
              </a:rPr>
              <a:t>The Theory</a:t>
            </a:r>
            <a:endParaRPr b="1" lang="en-US" sz="40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457200" y="3962520"/>
            <a:ext cx="3171960" cy="2495520"/>
            <a:chOff x="457200" y="3962520"/>
            <a:chExt cx="3171960" cy="2495520"/>
          </a:xfrm>
        </p:grpSpPr>
        <p:sp>
          <p:nvSpPr>
            <p:cNvPr id="85" name=""/>
            <p:cNvSpPr/>
            <p:nvPr/>
          </p:nvSpPr>
          <p:spPr>
            <a:xfrm>
              <a:off x="457200" y="3962520"/>
              <a:ext cx="3171960" cy="2495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568800" y="4236120"/>
              <a:ext cx="2927880" cy="193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/>
          <p:cNvSpPr/>
          <p:nvPr/>
        </p:nvSpPr>
        <p:spPr>
          <a:xfrm>
            <a:off x="4064040" y="4375080"/>
            <a:ext cx="5079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tienne W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ichard McDermo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ill Sny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ultivating Communities of Practic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, Harvard Business School Press,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2800" y="1523880"/>
            <a:ext cx="7710480" cy="2377800"/>
          </a:xfrm>
          <a:prstGeom prst="rect">
            <a:avLst/>
          </a:prstGeom>
          <a:solidFill>
            <a:srgbClr val="9933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marL="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66"/>
                </a:solidFill>
                <a:latin typeface="Times New Roman"/>
                <a:ea typeface="ＭＳ Ｐゴシック"/>
              </a:rPr>
              <a:t>Groups of people who share a concern, a set of problems, or a passion about a topic and deepen their knowledge by interacting on an ongoing ba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itle 1"/>
          <p:cNvSpPr/>
          <p:nvPr/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  <a:ea typeface="ＭＳ Ｐゴシック"/>
              </a:rPr>
              <a:t>Communities of Practice are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Three characteristics are crucial: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743120"/>
            <a:ext cx="77724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– the concern, interest or pa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– those who interact and/or value the interactions, often practitio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– members are practitioners that work toward some goal or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Three characteristics are crucial: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742760"/>
            <a:ext cx="77724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– the concern, interest or pa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– those who interact and/or value the interactions, often practitio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– members are practitioners that work toward some goal or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ommunity of practice is not just an interes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5faa"/>
                </a:solidFill>
                <a:latin typeface="Arial"/>
              </a:rPr>
              <a:t>CoP Classic Characteristics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14160"/>
            <a:ext cx="754380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elf-organizing, Inf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ny kinds of members: contributors, lurkers, newbies, facilitator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luntary, based on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Joint learning; Sharing of best practices; Reusable knowledge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quire more than just discu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terested in data/information infrastructures, interoperability, sharing,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embers distributed across many disciplines that share the common concern, interest or pa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04812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faa"/>
                </a:solidFill>
                <a:latin typeface="Arial"/>
              </a:rPr>
              <a:t>GEO User Interface Committee in 2005: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5faa"/>
                </a:solidFill>
                <a:latin typeface="Arial"/>
              </a:rPr>
              <a:t>What conceptually would an AQ Communities of Practice look like?:</a:t>
            </a:r>
            <a:br>
              <a:rPr sz="4000"/>
            </a:br>
            <a:endParaRPr b="1" lang="en-US" sz="40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343400" y="1706400"/>
            <a:ext cx="276120" cy="41608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19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THE SPECTRUM OF USER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 observations &amp; AQ/ atmospheric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-to-Information archiving &amp;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support too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ment of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/atmospheric scientists and mod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 data managers and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process modelers &amp;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 Makers, Publ Health officials, AQ manager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officials, advocacy groups and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914400"/>
            <a:ext cx="25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obser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943600"/>
            <a:ext cx="23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societal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638680" cy="4829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 Conceptual Air Quality &amp; Health</a:t>
            </a: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mmunity of Practice (2005)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2475600">
            <a:off x="2133360" y="2133720"/>
            <a:ext cx="1066680" cy="228600"/>
          </a:xfrm>
          <a:prstGeom prst="leftArrow">
            <a:avLst>
              <a:gd name="adj1" fmla="val 50000"/>
              <a:gd name="adj2" fmla="val 116654"/>
            </a:avLst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5840" y="167652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4600" y="4724280"/>
            <a:ext cx="183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un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ve R&amp;D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58760" y="4648320"/>
            <a:ext cx="1887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un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ist but On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ve Limi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ac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0:35:44Z</dcterms:created>
  <dc:creator>Watkins</dc:creator>
  <dc:description/>
  <dc:language>en-US</dc:language>
  <cp:lastModifiedBy>EPA</cp:lastModifiedBy>
  <dcterms:modified xsi:type="dcterms:W3CDTF">2010-06-14T11:34:08Z</dcterms:modified>
  <cp:revision>211</cp:revision>
  <dc:subject/>
  <dc:title>An Overview of Available Environmental Data for Air</dc:title>
</cp:coreProperties>
</file>